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EA0-4B3E-4424-9637-31B5060F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C55-0400-41AC-9C8D-E7AA10F5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8AC-C9D5-41D6-8053-AB6A658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9D7-982B-45DD-B05A-96E374F6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1523-42F1-4D2A-9668-E425B8FF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BCE4-7603-4BC2-AAA1-DF0446F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1675-4366-4B6A-9F57-F9D964C6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E5A1-E349-42B5-9542-BB216E5D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4E2F-7C0D-4BB7-8122-C7D658B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B070-9684-421E-BDB9-355FFF8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4AF-4F75-41CA-837B-C26D80F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B5D-C1DB-4B5F-8FDC-2C403334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7C58-9CD7-4CBC-A484-85455F9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3049-CA9F-4617-855C-FC4529F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280C-5CF1-4521-A4D8-91172E4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D911-A644-4CFC-87F5-70379841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045-5E35-4A38-B38E-911FE041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9C8-B298-4E4F-B353-D3C73AB7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C99-1A86-4682-9CF7-EE133D7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64B-A94F-4D40-85D2-6D1901D9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391-9736-4393-BB22-D8C220A3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374-DCE9-477C-966C-E2196C2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AC-FCBF-484C-A26E-035CE48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436-FBD2-47E7-9C7F-F427FC4F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2AB-E28D-42FF-AA53-E0755D58DE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23C-7A20-4CF7-AF8B-401252D053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 llamo _____________    Clase 10 NM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La fecha es el 7 de noviembre del 2011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5652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3300"/>
                </a:solidFill>
                <a:latin typeface="Arial"/>
              </a:rPr>
              <a:t>Propósito #13: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¿Cómo continuamos el repa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3300"/>
                </a:solidFill>
                <a:latin typeface="Arial"/>
              </a:rPr>
              <a:t>Actividad Inici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 Spanish, say if you like or you don’t like to do the following th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pasar la Tarea 11 y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183060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819520" y="3665520"/>
            <a:ext cx="1676160" cy="1592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397640" y="3200400"/>
            <a:ext cx="679680" cy="2286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0160" y="5470560"/>
            <a:ext cx="19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(no) Me 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91560" y="5181480"/>
            <a:ext cx="22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(no) Me 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irar tel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8840" y="4876920"/>
            <a:ext cx="19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(no) Me 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c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7800" y="5334120"/>
            <a:ext cx="27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(no) Me 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blar por telé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Arial"/>
              </a:rPr>
              <a:t>Repaso de la Tarea # 10 y 11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ease give me your day of the dead homework and your pruba with your parents signature on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Arial"/>
              </a:rPr>
              <a:t>Practica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320" y="14558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ómo se dicen las clases del españo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333520" cy="196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533680" cy="180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248520" y="1981080"/>
            <a:ext cx="180000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77120" y="4572000"/>
            <a:ext cx="2666880" cy="1533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04920" y="434340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325160" y="3809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71080" y="396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Bi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43040" y="434340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Quí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68120" y="61722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9920" y="518148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Las 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4280" y="617220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0" y="32004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l es tu asignatura  favori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 asignatura favorita 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l es su asignatura  favori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asignatura favorita 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25560" y="251460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atemát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93560" y="25146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6680" y="3733920"/>
            <a:ext cx="396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What is your favorite su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3680" y="463248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y favorite subjec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20520" y="562284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What is his/her favorite su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9840" y="6461280"/>
            <a:ext cx="36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is/her favorite subjec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ff3300"/>
                </a:solidFill>
                <a:latin typeface="Arial"/>
              </a:rPr>
              <a:t>Tarea #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248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6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9:17:55Z</dcterms:created>
  <dc:creator>Helen Zumaeta</dc:creator>
  <dc:description/>
  <dc:language>en-US</dc:language>
  <cp:lastModifiedBy>NYCDOE</cp:lastModifiedBy>
  <dcterms:modified xsi:type="dcterms:W3CDTF">2011-11-07T19:40:02Z</dcterms:modified>
  <cp:revision>9</cp:revision>
  <dc:subject/>
  <dc:title>Me llamo _____________    Clase 10 NM La fecha es el 22 de septiembre del 2011</dc:title>
</cp:coreProperties>
</file>